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2C09-B76B-4817-B8E3-CF8C373D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378-854F-49DA-A3BF-AC6E2E06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B15-6C57-4E2A-B44B-2834C3CD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F83-5DC5-4F67-92F5-5341B80F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9E92-BA54-4AC3-AA05-C5B840B9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46F-CFD0-43D0-8EBA-1CBF2EAE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BBF6-3FAB-4C8C-848B-232D9EF2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179-73D6-4A36-A30D-8E28AD0F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0DFE-7009-421F-A141-35434374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6C4-B499-4ED1-9950-2017E607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4FC2-9A27-485E-B8F3-D85A35B7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2E8-2E54-41B2-B0FB-084F1FEA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991E-5BCA-4A35-BBC6-6381F478F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9440"/>
            <a:ext cx="9143280" cy="6815520"/>
            <a:chOff x="0" y="19440"/>
            <a:chExt cx="9143280" cy="6815520"/>
          </a:xfrm>
        </p:grpSpPr>
        <p:sp>
          <p:nvSpPr>
            <p:cNvPr id="42" name="_s2070"/>
            <p:cNvSpPr/>
            <p:nvPr/>
          </p:nvSpPr>
          <p:spPr>
            <a:xfrm flipH="1" flipV="1">
              <a:off x="2957040" y="2222280"/>
              <a:ext cx="808560" cy="60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69"/>
            <p:cNvSpPr/>
            <p:nvPr/>
          </p:nvSpPr>
          <p:spPr>
            <a:xfrm>
              <a:off x="1001880" y="767160"/>
              <a:ext cx="2286360" cy="1704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xican food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ile en nog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nk- Aqu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es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68"/>
            <p:cNvSpPr/>
            <p:nvPr/>
          </p:nvSpPr>
          <p:spPr>
            <a:xfrm flipH="1">
              <a:off x="2288520" y="3425760"/>
              <a:ext cx="114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67"/>
            <p:cNvSpPr/>
            <p:nvPr/>
          </p:nvSpPr>
          <p:spPr>
            <a:xfrm>
              <a:off x="0" y="2576520"/>
              <a:ext cx="2285640" cy="1704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ncing-Mexica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t d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flamencoL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nza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l ven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66"/>
            <p:cNvSpPr/>
            <p:nvPr/>
          </p:nvSpPr>
          <p:spPr>
            <a:xfrm flipH="1">
              <a:off x="2957040" y="4026600"/>
              <a:ext cx="808560" cy="60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65"/>
            <p:cNvSpPr/>
            <p:nvPr/>
          </p:nvSpPr>
          <p:spPr>
            <a:xfrm>
              <a:off x="1005480" y="4383000"/>
              <a:ext cx="2285640" cy="1704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t- Mexica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lk art, Music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riachi, soun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 drum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yan aztec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64"/>
            <p:cNvSpPr/>
            <p:nvPr/>
          </p:nvSpPr>
          <p:spPr>
            <a:xfrm>
              <a:off x="4571280" y="4275720"/>
              <a:ext cx="0" cy="85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63"/>
            <p:cNvSpPr/>
            <p:nvPr/>
          </p:nvSpPr>
          <p:spPr>
            <a:xfrm>
              <a:off x="3431520" y="5130720"/>
              <a:ext cx="2286360" cy="1704240"/>
            </a:xfrm>
            <a:prstGeom prst="ellipse">
              <a:avLst/>
            </a:prstGeom>
            <a:solidFill>
              <a:srgbClr val="4603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me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kirt, huipi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leevel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unic, quechquémitl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clos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oul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62"/>
            <p:cNvSpPr/>
            <p:nvPr/>
          </p:nvSpPr>
          <p:spPr>
            <a:xfrm>
              <a:off x="5376960" y="4026600"/>
              <a:ext cx="808560" cy="60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61"/>
            <p:cNvSpPr/>
            <p:nvPr/>
          </p:nvSpPr>
          <p:spPr>
            <a:xfrm>
              <a:off x="5854320" y="4380480"/>
              <a:ext cx="2286360" cy="1704240"/>
            </a:xfrm>
            <a:prstGeom prst="ellipse">
              <a:avLst/>
            </a:prstGeom>
            <a:solidFill>
              <a:srgbClr val="ec46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bozo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ind of shawl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t-sombre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58"/>
            <p:cNvSpPr/>
            <p:nvPr/>
          </p:nvSpPr>
          <p:spPr>
            <a:xfrm>
              <a:off x="5711040" y="3425760"/>
              <a:ext cx="114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57"/>
            <p:cNvSpPr/>
            <p:nvPr/>
          </p:nvSpPr>
          <p:spPr>
            <a:xfrm>
              <a:off x="6856920" y="2573640"/>
              <a:ext cx="2286360" cy="1704240"/>
            </a:xfrm>
            <a:prstGeom prst="ellipse">
              <a:avLst/>
            </a:prstGeom>
            <a:solidFill>
              <a:srgbClr val="49f9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languag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Spanish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056"/>
            <p:cNvSpPr/>
            <p:nvPr/>
          </p:nvSpPr>
          <p:spPr>
            <a:xfrm flipV="1">
              <a:off x="5376960" y="2222280"/>
              <a:ext cx="808560" cy="60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055"/>
            <p:cNvSpPr/>
            <p:nvPr/>
          </p:nvSpPr>
          <p:spPr>
            <a:xfrm>
              <a:off x="5851440" y="767160"/>
              <a:ext cx="2285640" cy="1704240"/>
            </a:xfrm>
            <a:prstGeom prst="ellipse">
              <a:avLst/>
            </a:prstGeom>
            <a:solidFill>
              <a:srgbClr val="ee1e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religion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xico i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ma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tholi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2060"/>
            <p:cNvSpPr/>
            <p:nvPr/>
          </p:nvSpPr>
          <p:spPr>
            <a:xfrm flipV="1">
              <a:off x="4571280" y="1724040"/>
              <a:ext cx="0" cy="8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059"/>
            <p:cNvSpPr/>
            <p:nvPr/>
          </p:nvSpPr>
          <p:spPr>
            <a:xfrm>
              <a:off x="3428280" y="19440"/>
              <a:ext cx="2285640" cy="1704240"/>
            </a:xfrm>
            <a:prstGeom prst="ellipse">
              <a:avLst/>
            </a:prstGeom>
            <a:solidFill>
              <a:srgbClr val="e0f85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ousers, shirt,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uropean-like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rape, an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xican bo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2054"/>
            <p:cNvSpPr/>
            <p:nvPr/>
          </p:nvSpPr>
          <p:spPr>
            <a:xfrm>
              <a:off x="3428280" y="2576520"/>
              <a:ext cx="2285640" cy="170424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ltu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1:49:12Z</dcterms:created>
  <dc:creator>teacher</dc:creator>
  <dc:description/>
  <dc:language>en-US</dc:language>
  <cp:lastModifiedBy>teacher</cp:lastModifiedBy>
  <dcterms:modified xsi:type="dcterms:W3CDTF">2010-05-07T15:31:34Z</dcterms:modified>
  <cp:revision>6</cp:revision>
  <dc:subject/>
  <dc:title>Slide 1</dc:title>
</cp:coreProperties>
</file>